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F012988-8702-4A6A-B7C2-ACF346C1B09F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ond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y name  assitant to Prof. Hornung who holds the chair of public law, information technology law, legal informat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ner of SkIdentity responsible for the legal asp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shed on the agen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posal for a regulation on electronic identification and trust services for electronic transactions in the internal mark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e 04 12 sub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ubject to our research in the context of the project, which I w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6253CF3-DC76-4540-A1D6-8DF4AAFC45F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AE51A87-1B0D-45DF-BD1E-0F5CD70EA60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7906F-6BB4-4411-84F0-54D9A7D1075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723A223-80B1-43B4-BE92-572C3584F99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cision irrevisi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chnical solutions nee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166F4BB-A3ED-4044-A721-3141F561E71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22320" y="73836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ach Member State establishes a Gateway that communicate with other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C4F3C44-E964-423B-8821-075F225EFA4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e element: brok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ndles eIDs, to different service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so cloud connector as an commo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90866D7-D6D3-4169-86E0-7BCD68A4F39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3D0DCE3-17A7-4142-BF8B-7E7BA474FD6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82D2B46-AE10-4700-A495-9B8C96C029E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arification: Draft Report Commitee energy, research and technolo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Or recognis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quire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FFDA174-BD0F-4817-918F-45887C8B825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ndamental right of self determin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a Protection and Security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s to have them at his own dispos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 of building an infrastructure in accordance with lega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gration of further entities has to be in accordance with existing guid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58FAB95-C081-4E73-BDF2-D53B8ED96C4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 parts independentl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9A251E6-7F5E-4555-867D-55420975F51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FB4B320-A7D4-4F3E-8346-8987AF24094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2E2098A-58BE-4F87-8885-DBB9643A073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2320" y="78732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wo-factor Authentification, possession and knowledge chipcards nP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4A85AF7-495A-47E7-8DF3-6247C1719D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kIDentity: Explain in detail l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E1099E6-DE94-4B61-91DD-DFC03E46DBB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E6D49E0-1FCD-46E3-B1AD-942C8449E4F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-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 be notified, doesn‘t hav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f notified, recognition and acceptance at a serv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re an electronic identification mean in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ave this for a moment and go to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809809B-4E00-4A6C-A730-E3663B9EE6F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sued on behalf or under the responsibility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rrow it down, art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fic technical requirements on relying parties outside of their terri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 conti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B4A6E2D-21A1-4688-9163-AC584562A98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m it u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y service provider, where national authentification is required under national legislation or administrative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n notifi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ified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al technical requirements, 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me sort of 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8177C00-A76D-41BA-9098-15CC69D5248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issued on behalf of or under the 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ther eids health card, not issued but under the responsibility, can you imagine th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dea of one national eID:  recital, explanatory memorand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blic servic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ding no, recital somehow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ecial technical requirements? What was meant by tha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o will bear the cos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wnside: we have to acce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ability: wide nar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You could come to the conclu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A6D18C5-4C8B-4E77-BB51-A7DD5905604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E17B-F4BC-49AF-AE6D-942CB22C0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A839-49C4-47B2-96F9-A648F9E15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F1F8-917D-40A8-A9DC-68B7D61E2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0FA6-D538-4530-8F6D-74E33F801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11749-120F-46F3-AF39-3921DACC7F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23F38-DE88-44E6-ACCE-594FAEB799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712E-DC53-411D-955D-95DC5FF357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6545A-4CA1-4B59-A0CE-392C1CF9F9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408E-111F-4767-B703-A411771FE1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94AA7-1029-492F-A4B6-66E87A3520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241AF-BEDD-47AE-892D-09695FC980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289F-2E7C-400C-91DB-19057476C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055F0-0E3E-4ABE-8C30-D2D9BA4423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509FF-F30C-4000-91C3-50E0DEDAB1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941FE-3E0D-4E17-8DCA-D7320DA86F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B74CA-9402-4FE5-BE4C-EDAB974214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E5481-3F69-4F91-85C1-3DEE03FB0F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AFF2-A50A-49A4-B377-EDF07FFFD6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804C-B2FC-4519-9719-37552936A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7FD9-A4F6-4AA3-955F-A527FC51C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BE5E-985B-4DBD-AC58-8A0717004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BC98-AA78-47F2-B782-B90E873A4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DD807-3644-4853-AA94-4A17E0099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3C75-BCFD-4E64-9E17-D20BEE9A1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A1DB4013-08EF-4500-B702-AA0CAE306599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34E56B14-8877-4D5F-BFB5-D4B68C434AFA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ocs.ecsec.de/BSI-MSACC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M in Cloud Computing in Conformity with EU Law?</a:t>
            </a:r>
            <a:br>
              <a:rPr sz="60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eIAS-R-D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B53E670-4D2B-4E71-9AB6-14F13821F44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0EB0224-932A-4A4C-B91E-1BFA5FCFB39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8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220680" y="2924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2880" y="33156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-Infrastructur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D 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 Provider, § 2 Abs. 3 PAusw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upervisory Bod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2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56"/>
          <p:cNvSpPr/>
          <p:nvPr/>
        </p:nvSpPr>
        <p:spPr>
          <a:xfrm>
            <a:off x="7500960" y="207180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ew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6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Transf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2-Person-Relation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Gerade Verbindung mit Pfeil 97"/>
          <p:cNvCxnSpPr>
            <a:stCxn id="229" idx="0"/>
            <a:endCxn id="228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8" name="Textfeld 100"/>
          <p:cNvSpPr/>
          <p:nvPr/>
        </p:nvSpPr>
        <p:spPr>
          <a:xfrm>
            <a:off x="7072200" y="5000760"/>
            <a:ext cx="23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Pos. demands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evok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0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Dema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2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Compla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cial technical requiremen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. not free of char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: other, less secure eIDs have to be acctepted beside the nP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5D1B170-5BDA-47A7-B943-17D04C5D99D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CFB23FF-9C49-4E21-AB5F-D57A9C862BE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178B46E-F98B-4C8D-BB1C-10A3FB16C7A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220680" y="3860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ORK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teway-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ddleware-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 aims at Gateway-Appro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echnical requi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2920" indent="-2192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erns towards data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6776A3E-B421-49A9-8F41-40CF2BC912C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Architecture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AD4F4EF-7BEA-437C-BA8A-697251D7AD3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special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 standardized interface: cloud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e of charge for the service provid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742B671-D1FD-4DAB-B4CB-B5E41916DB5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7C255F8-168C-4FB8-B496-77DB61901CF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F48C89C-2B11-46A7-8438-9D79F5CB7EB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220680" y="472428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Further requirements eIAS-R-D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fficient in the sense of Art. 6 I 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one po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 inv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arification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lying parti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cope of application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ck of requirements regarding data proctecion and security – Liabilit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aft Report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PC on Industry, Research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4CF8614-EAF8-4915-9CC9-4200AF61630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9 I Nr. 1 PAuswV: no certificate if „der Zweck der Datenerhebung ausschließlich in der Auslesung oder Bereitstellung personenbezogener Daten aus dem Personalausweis für den Ausweisinhaber oder Dritte besteht“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level of confidence? BSI TR 03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A7DC2FE-0201-4047-8552-9BC389BAAF8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4"/>
          <p:cNvSpPr/>
          <p:nvPr/>
        </p:nvSpPr>
        <p:spPr>
          <a:xfrm>
            <a:off x="3419640" y="347976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Personal ID Card La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5E646EA-1C89-40E8-B63A-CD5EA7C6D64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6518022-9AA3-47AB-ADD9-4E0251665B0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237960" y="119700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DB9C3A1-F150-4AE8-861E-71D8F52E945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4DD298E-B940-42BA-8123-5E3413479DC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3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179280" y="5551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clusion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D-R endangeres different secure IDM-Systems and raises a lot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pecially problematic in the international context of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 least modifications needed (e.g. Draft Report E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approaches? 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n questions of law rem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73D0820-162C-4AF0-ADBC-EE1544C75F9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0F5AACF-6EE9-4F54-9F3F-75E45A6BD89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323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3197160" y="69228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328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329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330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SI: Security Guidelines for Cloud Provide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41C533B-E26E-42B5-A2DB-D4AEC365990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4"/>
          <p:cNvSpPr/>
          <p:nvPr/>
        </p:nvSpPr>
        <p:spPr>
          <a:xfrm>
            <a:off x="3007080" y="6226200"/>
            <a:ext cx="25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f56482"/>
                </a:solidFill>
                <a:uFillTx/>
                <a:latin typeface="Arial"/>
                <a:hlinkClick r:id="rId1"/>
              </a:rPr>
              <a:t>http://docs.ecsec.de/BSI-MSACC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76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ratic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idge between secure eIDs and clou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ctronic health card / other smart cards /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D-Bro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tack“ on the eID-infrastructure of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ides: raises a lot of questions: Scope of Application / Liability 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57FD2D1-F0DD-4C29-AD7B-E654451E66E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B60D593-31A4-447F-8852-91486E9956B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2A4A758-EBD7-4BCF-9A65-5B7BDC45690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220680" y="206064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cceptance of Identitfication Mea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5 – Mutual recognition and accep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hen an electronic identification using an electronic identification means and authentificati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 requir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der national legislation or adminstrative practice to access a service online, any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sued i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other Member State falling under a scheme includ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n the list published b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Commission pursuant to the procedure referred to in Article 7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be recognis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ccepted f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purpose of accessing this service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2059C2A-5427-4ED9-BDB3-C24BC3E470B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Requirements for No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6 – Conditions of notification of electronic identific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a) the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re issued by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n behalf of or under the responsibilit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notifying [MS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d) the notifying [MS] ensures the availability of an authentication possibility online, at any tim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free of charg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MS]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impos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ny specific technical requirement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relying partie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stablish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utside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of their territory intending  to carry out such authentication […]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48F173E-7385-4F1A-8F66-A0FC6344D0B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Liability?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c) the notifying Member States ensures that the person identification data ar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ttributed unambiguousl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o the natural or legal person referred to in Article 3 point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e) the notifying Member State take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liability for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unambiguos attributi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person identification data referred to in point 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uthentication possibilti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 point (d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D4207FB-D929-4AA5-AA01-3BB3B559B6E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ope of appl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triction to public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urity withou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 of the principle of mutual acceptance: Lack of data protection and security provi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bil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: Less secure, more likely to be notifi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4FE6D75-7319-4815-8E41-B7E34356417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11T07:09:18Z</dcterms:modified>
  <cp:revision>688</cp:revision>
  <dc:subject>Unternehmenspräsentation</dc:subject>
  <dc:title>secunet</dc:title>
</cp:coreProperties>
</file>